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39.pct" ContentType="image/x-pict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0.pct" ContentType="image/x-pict"/>
  <Override PartName="/ppt/media/image33.png" ContentType="image/png"/>
  <Override PartName="/ppt/media/image31.pct" ContentType="image/x-pict"/>
  <Override PartName="/ppt/media/image34.png" ContentType="image/png"/>
  <Override PartName="/ppt/media/image12.jpeg" ContentType="image/jpeg"/>
  <Override PartName="/ppt/media/image32.pct" ContentType="image/x-pict"/>
  <Override PartName="/ppt/media/image40.pct" ContentType="image/x-pict"/>
  <Override PartName="/ppt/media/image37.jpeg" ContentType="image/jpeg"/>
  <Override PartName="/ppt/media/image3.jpeg" ContentType="image/jpeg"/>
  <Override PartName="/ppt/media/image24.jpeg" ContentType="image/jpeg"/>
  <Override PartName="/ppt/media/image4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7CF-FB24-4BCF-8268-7AAAC41B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3AC-1463-4F22-8495-ED90D32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CD5-6617-4CD6-94BF-4826857D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425-9189-4320-806A-5318BCB8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C210-7DC8-498B-ADB1-1CF1B085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18DC-44BD-4F60-8B36-8FE6DFA6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E03-740D-47CE-9ABC-2DC7970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8973-7432-4B0E-8715-BF110566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4046-0D3F-41E4-BAA9-BA724629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41A6-B18C-4771-937A-AF52F5B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D8E8-4547-44D8-932A-5CB23ED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5A3-98F0-4724-804B-BADF951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7894-C9D6-4EB4-BEEB-7448AD3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90A9-B455-4333-BB18-39F39A7A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B91E-5BF6-4915-B8F7-2E5AB4F6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4D4-D249-429A-AD42-EDE899DF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82F6-E5C0-4069-BC88-D85A9251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6B1F-B64E-4831-9AD6-6E6C44E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1BEF-171E-4C93-A23F-F761906A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A752-4685-49FD-BA25-BB7DE48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679A-2217-4671-9698-753ED987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C226-CB7B-4E43-A79B-0162F606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956-7DE1-441B-B934-FD2B271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C73E-54C4-46E3-9DE3-F05D124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5DF2-6142-486B-869F-869835A5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47B2-6035-463F-A601-D152F0DE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D97B-6AE4-4388-82B9-37B0E72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E7C4-5FFC-450E-B5A4-A048306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4B0A-9EFB-4982-A4CB-341E7D4B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1558-E049-4068-B460-25B16C8F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CD3D-950D-41C5-A286-54D975D3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F610-7933-4C02-A60B-52D95EFD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7F2F-8FB3-43E1-B04A-1CCE262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A56-3573-403D-A13C-A02D50F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2C01-8298-4792-B0B6-190A837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ADBF-8593-4483-B7EA-4FE78E29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2B70-AA72-42F1-A9F2-DED62A2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0721-4698-4F78-AEE0-8DC41DDB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2B78-79EE-4F80-86FA-2EA49685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7509-3AE1-4FE0-95FD-2DC3260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FD7C-95A9-491F-8311-EC9402CB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A6A2-1F00-4722-BEF0-D163DA02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CD32-58E4-43BE-9576-19190C81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4784-C6EC-454A-AA26-69EEA8EC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332-CF64-4E1D-94A2-FF268E1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19A5-8C23-44A3-BDD1-55E5FADE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1BBC-2BFE-4BC3-BDBA-FDFE9F4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4F8E6-964B-4954-91B4-2D55F6D6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41A36-C05A-4580-B015-5EB4BB58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7EE8-8190-4881-B26A-9EC922E7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6B9C-DC70-4F55-9DE5-57F994B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9791-B7C8-4BCA-A2EF-B06E16C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BD2B-B812-4D12-B32B-BCFD2862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C6AB-FE6E-4DDE-A8DA-A95B8D0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6EFA0-BDFF-4FE6-BA2D-D96302E1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C9D-100F-4D2C-81B9-3911504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FD2B-2EFE-4C2A-A3F3-114E01E4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636DC-2447-4809-9BD0-FBF8C1CF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58DEB-A52B-491A-A15B-F65D6D07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253E-6FE2-42BC-A697-1659D9B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83C9-EEEF-460F-9180-AD7808AF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A789-0EC0-45BD-A7B1-B3478399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19686-7402-4839-96CF-0ACDACDB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6304-94BB-4B97-A427-6823CD1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B117-88C4-4C8C-A95B-6C787DE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3016-B5AC-419A-AE0E-91CCE44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17A-BF65-4763-92E2-F3DF31F2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260E-EDFF-4763-9FAD-854A590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AC56-8CF8-4F84-80C8-14CD62B1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2664-AF49-4D19-996E-C5C91F84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063FF-3773-4DF6-91B9-3C91A999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2EEA2-B772-4878-99F7-54AF4E8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EED4-05CD-4503-A54D-1EB5DD59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0D07-68E8-40BB-9C1F-484FCD71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758A2-5520-4E93-8BEE-BCFF31AE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38AB-02E3-491D-925D-2E7AFA2A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D2F2-012D-4F8A-9EE7-06AF745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91C-65C3-43B8-9289-E7D0E8D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BB15-6AAE-451A-B813-B7472AD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B99A-EDC2-4DA3-B626-CBED8288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5278-078B-488C-B493-CF124F15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7AF86-B146-43B4-8228-3CBC4149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9A1CA-EBB4-4447-BFBA-0658CC6D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1E4-A5B2-44AF-82FF-0180703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42FC-1201-4C32-BEF0-EB1536A2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8420-078A-4F5A-98F9-5526ECC92438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A02-998A-40E1-996E-4A4FB83DCC45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F73E-8F83-43C9-82D0-58B5B263560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4B25-0D9A-40B9-B575-8F1DBA1F511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E96-2AF6-4D88-A5B7-1BBE6227C4FE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5D93-8A68-412A-A7FB-2F5E07D7EE24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solution"/>
          <p:cNvPicPr/>
          <p:nvPr/>
        </p:nvPicPr>
        <p:blipFill>
          <a:blip r:embed="rId2"/>
          <a:stretch/>
        </p:blipFill>
        <p:spPr>
          <a:xfrm>
            <a:off x="228600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5"/>
          <p:cNvSpPr txBox="1"/>
          <p:nvPr/>
        </p:nvSpPr>
        <p:spPr>
          <a:xfrm>
            <a:off x="0" y="4800600"/>
            <a:ext cx="424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OLU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6" name="AutoShape 7">
            <a:hlinkClick r:id="rId5" action="ppaction://hlinksldjump"/>
          </p:cNvPr>
          <p:cNvSpPr/>
          <p:nvPr/>
        </p:nvSpPr>
        <p:spPr>
          <a:xfrm>
            <a:off x="85345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4"/>
          <p:cNvSpPr txBox="1"/>
          <p:nvPr/>
        </p:nvSpPr>
        <p:spPr>
          <a:xfrm>
            <a:off x="762120" y="380880"/>
            <a:ext cx="7553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ven after all that, there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omes a point where no more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lute will dissolve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8" name="WordArt 5"/>
          <p:cNvSpPr txBox="1"/>
          <p:nvPr/>
        </p:nvSpPr>
        <p:spPr>
          <a:xfrm>
            <a:off x="304920" y="2743200"/>
            <a:ext cx="845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olution equilibrium- no more solu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will dissol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69" name="WordArt 6"/>
          <p:cNvSpPr txBox="1"/>
          <p:nvPr/>
        </p:nvSpPr>
        <p:spPr>
          <a:xfrm>
            <a:off x="838080" y="4419720"/>
            <a:ext cx="723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ssolving and recrystallizing are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ppening at the same rate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457200" y="457200"/>
            <a:ext cx="7629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aturated solution- solution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t equilibrium, no more solute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an be added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71" name="WordArt 5"/>
          <p:cNvSpPr txBox="1"/>
          <p:nvPr/>
        </p:nvSpPr>
        <p:spPr>
          <a:xfrm>
            <a:off x="533520" y="2666880"/>
            <a:ext cx="7696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saturated solution- can still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old more solute, not at equil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2" name="WordArt 6"/>
          <p:cNvSpPr txBox="1"/>
          <p:nvPr/>
        </p:nvSpPr>
        <p:spPr>
          <a:xfrm>
            <a:off x="838080" y="4267080"/>
            <a:ext cx="7801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upersaturated solution- holds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re than the normal amount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of solute, only happens under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harsh condition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4"/>
          <p:cNvSpPr/>
          <p:nvPr/>
        </p:nvSpPr>
        <p:spPr>
          <a:xfrm>
            <a:off x="2743200" y="2590920"/>
            <a:ext cx="3429000" cy="3886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2743200" y="4191120"/>
            <a:ext cx="3429000" cy="2286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200400" y="4876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3657600" y="5410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2895480" y="5486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0"/>
          <p:cNvSpPr/>
          <p:nvPr/>
        </p:nvSpPr>
        <p:spPr>
          <a:xfrm>
            <a:off x="5410080" y="50292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3809880" y="49528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4876920" y="5410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3"/>
          <p:cNvSpPr/>
          <p:nvPr/>
        </p:nvSpPr>
        <p:spPr>
          <a:xfrm>
            <a:off x="5715000" y="5410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4"/>
          <p:cNvSpPr txBox="1"/>
          <p:nvPr/>
        </p:nvSpPr>
        <p:spPr>
          <a:xfrm>
            <a:off x="380880" y="304920"/>
            <a:ext cx="8458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 the solution cools, it becomes harder to hold together.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15"/>
          <p:cNvSpPr txBox="1"/>
          <p:nvPr/>
        </p:nvSpPr>
        <p:spPr>
          <a:xfrm>
            <a:off x="0" y="0"/>
            <a:ext cx="880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dding one crystal causes the extra to fall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ut of solution like rain.  This is called "seeding."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Oval 16"/>
          <p:cNvSpPr/>
          <p:nvPr/>
        </p:nvSpPr>
        <p:spPr>
          <a:xfrm>
            <a:off x="632448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14887E-007 C -0.03229 -0.01433 -0.06614 -0.00462 -0.09791 0.00601 C -0.10225 0.00994 -0.10677 0.01387 -0.11111 0.0178 C -0.11562 0.02173 -0.12205 0.02035 -0.12673 0.02381 C -0.13142 0.02728 -0.1401 0.0356 -0.1401 0.0356 C -0.15034 0.05641 -0.14444 0.04947 -0.15555 0.05918 C -0.15712 0.06219 -0.15816 0.06565 -0.16007 0.0682 C -0.16198 0.07074 -0.16493 0.07143 -0.16666 0.07398 C -0.17014 0.07929 -0.17187 0.08669 -0.17569 0.09178 C -0.17795 0.09478 -0.18003 0.09755 -0.18229 0.10056 C -0.18628 0.11628 -0.18316 0.10703 -0.1934 0.12737 C -0.19618 0.13292 -0.19722 0.13939 -0.2 0.14494 C -0.20764 0.18586 -0.22048 0.22469 -0.22673 0.2663 C -0.22743 0.29797 -0.22899 0.32941 -0.22899 0.36108 C -0.22899 0.36616 -0.22777 0.37102 -0.22673 0.37587 C -0.22552 0.38188 -0.22222 0.39367 -0.22222 0.39367 C -0.22465 0.40338 -0.22673 0.40245 -0.22222 0.40245 E">
                                      <p:cBhvr>
                                        <p:cTn id="257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22 0.40245 C -0.23437 0.4503 -0.22674 0.50093 -0.22222 0.5504 C -0.21858 0.59085 -0.22274 0.5682 -0.21771 0.58877 C -0.21632 0.59478 -0.21337 0.60657 -0.21337 0.60657 E">
                                      <p:cBhvr>
                                        <p:cTn id="28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62275E-006 L -0.00417 0.17198 E">
                                      <p:cBhvr>
                                        <p:cTn id="288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86963E-006 L 5.55112E-017 0.07767 E">
                                      <p:cBhvr>
                                        <p:cTn id="290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33148E-006 C -0.00173 0.0141 -0.00451 0.02728 -0.00659 0.04138 C -0.00798 0.06172 -0.01111 0.08322 -0.01111 0.10356 E">
                                      <p:cBhvr>
                                        <p:cTn id="29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1665 L 0.0125 0.17199 E">
                                      <p:cBhvr>
                                        <p:cTn id="29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7.85021E-006 L 0.01667 0.12205 E">
                                      <p:cBhvr>
                                        <p:cTn id="29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1983E-006 L -0.00416 0.09431 E">
                                      <p:cBhvr>
                                        <p:cTn id="29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4979E-006 L -3.33333E-006 0.14424 E">
                                      <p:cBhvr>
                                        <p:cTn id="30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4979E-006 L -3.33333E-006 0.08876 E">
                                      <p:cBhvr>
                                        <p:cTn id="30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9f7"/>
            </a:gs>
            <a:gs pos="100000">
              <a:srgbClr val="cd7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8600" y="228600"/>
            <a:ext cx="5715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rical Conductivity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828800" y="19051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Electrolytes-  able to conduct electr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828800" y="1066680"/>
            <a:ext cx="6781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Nonelectrolytes- unable to conduct electr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2666880"/>
            <a:ext cx="800100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onic compounds dissolved in water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o make solutions are excellent electrolytes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1295280" y="1600200"/>
            <a:ext cx="4572000" cy="472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121932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5867280" y="838080"/>
            <a:ext cx="1667160" cy="1235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248520" y="1219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1523880" y="49528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 rot="16200000">
            <a:off x="2588400" y="3278880"/>
            <a:ext cx="1984320" cy="4570560"/>
          </a:xfrm>
          <a:prstGeom prst="flowChartOnlineStorag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35"/>
          <p:cNvSpPr/>
          <p:nvPr/>
        </p:nvSpPr>
        <p:spPr>
          <a:xfrm>
            <a:off x="1371600" y="49528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6"/>
          <p:cNvSpPr/>
          <p:nvPr/>
        </p:nvSpPr>
        <p:spPr>
          <a:xfrm>
            <a:off x="2286000" y="5562720"/>
            <a:ext cx="685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7"/>
          <p:cNvSpPr/>
          <p:nvPr/>
        </p:nvSpPr>
        <p:spPr>
          <a:xfrm>
            <a:off x="3581280" y="4952880"/>
            <a:ext cx="685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8"/>
          <p:cNvSpPr/>
          <p:nvPr/>
        </p:nvSpPr>
        <p:spPr>
          <a:xfrm>
            <a:off x="4800600" y="51814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1447920" y="5105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487692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3623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3657600" y="5105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43"/>
          <p:cNvSpPr/>
          <p:nvPr/>
        </p:nvSpPr>
        <p:spPr>
          <a:xfrm rot="1319400">
            <a:off x="0" y="4571640"/>
            <a:ext cx="1371600" cy="9144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4"/>
          <p:cNvSpPr/>
          <p:nvPr/>
        </p:nvSpPr>
        <p:spPr>
          <a:xfrm rot="12682800">
            <a:off x="5790960" y="5562360"/>
            <a:ext cx="1371600" cy="9144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5"/>
          <p:cNvSpPr/>
          <p:nvPr/>
        </p:nvSpPr>
        <p:spPr>
          <a:xfrm>
            <a:off x="2286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6"/>
          <p:cNvSpPr/>
          <p:nvPr/>
        </p:nvSpPr>
        <p:spPr>
          <a:xfrm>
            <a:off x="533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7"/>
          <p:cNvSpPr/>
          <p:nvPr/>
        </p:nvSpPr>
        <p:spPr>
          <a:xfrm>
            <a:off x="76212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1595 C -0.01128 -0.000459999999999999 -0.02413 -0.01502 -0.0368 -0.02404 C -0.06232 -0.0631 -0.12153 -0.07142 -0.15139 -0.08368 C -0.18055 -0.08206 -0.20989 -0.08321 -0.23889 -0.07767 C -0.27257 -0.07142 -0.24479 -0.06634 -0.26632 -0.05085 C -0.2717 -0.04669 -0.2783 -0.04669 -0.28403 -0.04438 C -0.29045 -0.03583 -0.296 -0.02635 -0.30243 -0.01756 C -0.31302 -0.00115 -0.31528 0.01896 -0.32673 0.0356 C -0.33802 0.07467 -0.34514 0.12298 -0.36267 0.1491 C -0.37135 0.20389 -0.3717 0.25844 -0.37448 0.31623 C -0.37378 0.34929 -0.37361 0.38257 -0.37187 0.41586 C -0.37031 0.44614 -0.35955 0.48082 -0.3658 0.50925 E">
                                      <p:cBhvr>
                                        <p:cTn id="339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24827E-006 C -0.01146 -0.01549 -0.02378 -0.02913 -0.03611 -0.03745 C -0.06146 -0.07443 -0.11892 -0.08206 -0.14844 -0.09339 C -0.17691 -0.09223 -0.20573 -0.09293 -0.23403 -0.0883 C -0.26719 -0.08206 -0.23993 -0.07744 -0.26076 -0.06265 C -0.26632 -0.05848 -0.27274 -0.05848 -0.27847 -0.0571 C -0.28455 -0.04854 -0.29028 -0.03953 -0.29653 -0.03167 C -0.3066 -0.01618 -0.30903 0.00277 -0.31997 0.01872 C -0.33125 0.05548 -0.33802 0.10032 -0.35538 0.12529 C -0.36372 0.17661 -0.36406 0.22769 -0.36667 0.28178 C -0.36632 0.31322 -0.36615 0.3442 -0.36441 0.37563 C -0.36302 0.40407 -0.35208 0.43689 -0.35851 0.46394 E">
                                      <p:cBhvr>
                                        <p:cTn id="341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62 C 0.01527 -0.01318 0.01857 -0.00901 0.0408 -0.0067 C 0.04305 -0.00601 0.04566 -0.00578 0.04774 -0.00416 C 0.0526 -0.00116 0.06128 0.00647 0.06128 0.0067 C 0.07465 0.02866 0.05694 0.00254 0.07257 0.01688 C 0.07482 0.01896 0.07534 0.02242 0.07725 0.02473 C 0.07916 0.02682 0.08211 0.02797 0.08402 0.03005 C 0.10208 0.04854 0.09062 0.04323 0.10468 0.04808 C 0.10902 0.05178 0.11371 0.05548 0.11805 0.05895 C 0.12482 0.06426 0.14409 0.06681 0.15225 0.06935 C 0.15798 0.0712 0.17396 0.07536 0.17968 0.07975 C 0.18194 0.0816 0.18385 0.08368 0.18646 0.08507 C 0.21111 0.09894 0.17586 0.07605 0.2 0.09015 C 0.21423 0.09871 0.2276 0.10888 0.24114 0.11905 C 0.25052 0.12621 0.24791 0.13315 0.2592 0.13754 C 0.27152 0.15835 0.25555 0.13315 0.27066 0.15072 C 0.27882 0.16019 0.27639 0.16181 0.28871 0.1662 C 0.2993 0.17846 0.31771 0.18747 0.33211 0.19256 C 0.34739 0.20458 0.32864 0.19117 0.35034 0.20042 C 0.35277 0.20157 0.35434 0.20481 0.35711 0.2055 C 0.36961 0.20989 0.3875 0.21174 0.40034 0.21359 C 0.42864 0.22191 0.45833 0.21498 0.4868 0.21105 C 0.4967 0.20712 0.50451 0.20157 0.51423 0.19787 C 0.52361 0.18146 0.52708 0.17545 0.54375 0.16898 C 0.55243 0.15442 0.55781 0.16089 0.571 0.1558 C 0.58385 0.1595 0.58889 0.16251 0.60052 0.17152 C 0.60295 0.17337 0.60729 0.17684 0.60729 0.17707 C 0.61336 0.19718 0.60503 0.17152 0.61423 0.19256 C 0.61527 0.19487 0.61666 0.20042 0.61666 0.20065 E">
                                      <p:cBhvr>
                                        <p:cTn id="408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62 C 0.01527 -0.01318 0.01857 -0.00901 0.0408 -0.0067 C 0.04305 -0.00601 0.04566 -0.00578 0.04774 -0.00416 C 0.0526 -0.00116 0.06128 0.00647 0.06128 0.0067 C 0.07465 0.02866 0.05694 0.00254 0.07257 0.01688 C 0.07482 0.01896 0.07534 0.02242 0.07725 0.02473 C 0.07916 0.02682 0.08211 0.02797 0.08402 0.03005 C 0.10208 0.04854 0.09062 0.04323 0.10468 0.04808 C 0.10902 0.05178 0.11371 0.05548 0.11805 0.05895 C 0.12482 0.06426 0.14409 0.06681 0.15225 0.06935 C 0.15798 0.0712 0.17396 0.07536 0.17968 0.07975 C 0.18194 0.0816 0.18385 0.08368 0.18646 0.08507 C 0.21111 0.09894 0.17586 0.07605 0.2 0.09015 C 0.21423 0.09871 0.2276 0.10888 0.24114 0.11905 C 0.25052 0.12621 0.24791 0.13315 0.2592 0.13754 C 0.27152 0.15835 0.25555 0.13315 0.27066 0.15072 C 0.27882 0.16019 0.27639 0.16181 0.28871 0.1662 C 0.2993 0.17846 0.31771 0.18747 0.33211 0.19256 C 0.34739 0.20458 0.32864 0.19117 0.35034 0.20042 C 0.35277 0.20157 0.35434 0.20481 0.35711 0.2055 C 0.36961 0.20989 0.3875 0.21174 0.40034 0.21359 C 0.42864 0.22191 0.45833 0.21498 0.4868 0.21105 C 0.4967 0.20712 0.50451 0.20157 0.51423 0.19787 C 0.52361 0.18146 0.52708 0.17545 0.54375 0.16898 C 0.55243 0.15442 0.55781 0.16089 0.571 0.1558 C 0.58385 0.1595 0.58889 0.16251 0.60052 0.17152 C 0.60295 0.17337 0.60729 0.17684 0.60729 0.17707 C 0.61336 0.19718 0.60503 0.17152 0.61423 0.19256 C 0.61527 0.19487 0.61666 0.20042 0.61666 0.20065 E">
                                      <p:cBhvr>
                                        <p:cTn id="41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62 C 0.01527 -0.01318 0.01857 -0.00901 0.0408 -0.0067 C 0.04305 -0.00601 0.04566 -0.00578 0.04774 -0.00416 C 0.0526 -0.00116 0.06128 0.00647 0.06128 0.0067 C 0.07465 0.02866 0.05694 0.00254 0.07257 0.01688 C 0.07482 0.01896 0.07534 0.02242 0.07725 0.02473 C 0.07916 0.02682 0.08211 0.02797 0.08402 0.03005 C 0.10208 0.04854 0.09062 0.04323 0.10468 0.04808 C 0.10902 0.05178 0.11371 0.05548 0.11805 0.05895 C 0.12482 0.06426 0.14409 0.06681 0.15225 0.06935 C 0.15798 0.0712 0.17396 0.07536 0.17968 0.07975 C 0.18194 0.0816 0.18385 0.08368 0.18646 0.08507 C 0.21111 0.09894 0.17586 0.07605 0.2 0.09015 C 0.21423 0.09871 0.2276 0.10888 0.24114 0.11905 C 0.25052 0.12621 0.24791 0.13315 0.2592 0.13754 C 0.27152 0.15835 0.25555 0.13315 0.27066 0.15072 C 0.27882 0.16019 0.27639 0.16181 0.28871 0.1662 C 0.2993 0.17846 0.31771 0.18747 0.33211 0.19256 C 0.34739 0.20458 0.32864 0.19117 0.35034 0.20042 C 0.35277 0.20157 0.35434 0.20481 0.35711 0.2055 C 0.36961 0.20989 0.3875 0.21174 0.40034 0.21359 C 0.42864 0.22191 0.45833 0.21498 0.4868 0.21105 C 0.4967 0.20712 0.50451 0.20157 0.51423 0.19787 C 0.52361 0.18146 0.52708 0.17545 0.54375 0.16898 C 0.55243 0.15442 0.55781 0.16089 0.571 0.1558 C 0.58385 0.1595 0.58889 0.16251 0.60052 0.17152 C 0.60295 0.17337 0.60729 0.17684 0.60729 0.17707 C 0.61336 0.19718 0.60503 0.17152 0.61423 0.19256 C 0.61527 0.19487 0.61666 0.20042 0.61666 0.20065 E">
                                      <p:cBhvr>
                                        <p:cTn id="421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28600" y="228600"/>
            <a:ext cx="233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lubility</a:t>
            </a:r>
            <a:endParaRPr b="0" lang="en-US" sz="1800" spc="1" strike="noStrike">
              <a:ln w="32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3520" y="1143000"/>
            <a:ext cx="8610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The amount of substance that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dissolve in a certain amount of water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usually 100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52280" y="1066680"/>
            <a:ext cx="67564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lubility depends on several things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28600" y="1828800"/>
            <a:ext cx="8204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Types of Substances- Likes dissolve likes.</a:t>
            </a:r>
            <a:endParaRPr b="0" lang="en-US" sz="1800" spc="1" strike="noStrike">
              <a:ln w="324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359000" y="2540160"/>
            <a:ext cx="39243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olarity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termolecular forces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onding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ons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19320" y="4724280"/>
            <a:ext cx="604512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luble- able to be dissolved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soluble- unable to be dissolved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52280" y="152280"/>
            <a:ext cx="73026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mpounds with these ions are soluble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762120"/>
            <a:ext cx="78487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52280" y="2666880"/>
            <a:ext cx="73026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mpounds with these ions are insoluble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3581280"/>
            <a:ext cx="6705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52280" y="228600"/>
            <a:ext cx="398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2.  Tempera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52280" y="3105000"/>
            <a:ext cx="297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3.  Press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52280" y="1143000"/>
            <a:ext cx="9156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Liquids and solids are more soluble in hot water. 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Gases are more soluble in cold water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90440" y="4038480"/>
            <a:ext cx="876312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enry's Law- The solubility of a gas in a liquid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epends on the pressure exerted on the gas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866960" y="152280"/>
            <a:ext cx="5410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ffff"/>
                  </a:solidFill>
                  <a:prstDash val="sysDot"/>
                  <a:miter/>
                </a:ln>
                <a:solidFill>
                  <a:srgbClr val="ffffff"/>
                </a:solidFill>
                <a:latin typeface="Arial Black"/>
              </a:rPr>
              <a:t>Colligative Properties</a:t>
            </a:r>
            <a:endParaRPr b="0" lang="en-US" sz="1800" spc="1" strike="noStrike">
              <a:ln w="3240">
                <a:solidFill>
                  <a:srgbClr val="00ffff"/>
                </a:solidFill>
                <a:prstDash val="sysDot"/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1219320"/>
            <a:ext cx="87631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. Vapor pressure lowering- reduce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essure of a gas when it is above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iquid.  To do this, add solute to wat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03040" y="3429000"/>
            <a:ext cx="8737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Non-volatile substance such as salt or sugar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03040" y="304920"/>
            <a:ext cx="873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.  Boiling point elevation- raising the boil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oint of a substance by adding a sol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84240" y="2057400"/>
            <a:ext cx="71755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Adding salt to water while cooking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c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430800" y="22604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304920" y="3808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REEZING POINT DEPRE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0" name="WordArt 5"/>
          <p:cNvSpPr txBox="1"/>
          <p:nvPr/>
        </p:nvSpPr>
        <p:spPr>
          <a:xfrm>
            <a:off x="609480" y="1523880"/>
            <a:ext cx="7620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Freezing point depression i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lligative propert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431" name="WordArt 6"/>
          <p:cNvSpPr txBox="1"/>
          <p:nvPr/>
        </p:nvSpPr>
        <p:spPr>
          <a:xfrm>
            <a:off x="0" y="3048120"/>
            <a:ext cx="914400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When a nonvolatile solute is adde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water, it takes the water longer to get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the pressure where it will freeze.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0" y="548640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 Black"/>
              </a:rPr>
              <a:t>The temp has a chance to drop, so the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 Black"/>
              </a:rPr>
              <a:t>freezing point of the water is made lower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sodium"/>
          <p:cNvPicPr/>
          <p:nvPr/>
        </p:nvPicPr>
        <p:blipFill>
          <a:blip r:embed="rId1"/>
          <a:stretch/>
        </p:blipFill>
        <p:spPr>
          <a:xfrm>
            <a:off x="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Table_salt"/>
          <p:cNvPicPr/>
          <p:nvPr/>
        </p:nvPicPr>
        <p:blipFill>
          <a:blip r:embed="rId2"/>
          <a:stretch/>
        </p:blipFill>
        <p:spPr>
          <a:xfrm>
            <a:off x="6535800" y="4684680"/>
            <a:ext cx="2608200" cy="21733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7"/>
          <p:cNvSpPr txBox="1"/>
          <p:nvPr/>
        </p:nvSpPr>
        <p:spPr>
          <a:xfrm>
            <a:off x="1143000" y="457200"/>
            <a:ext cx="584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Classification of Ma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290" name="WordArt 8"/>
          <p:cNvSpPr txBox="1"/>
          <p:nvPr/>
        </p:nvSpPr>
        <p:spPr>
          <a:xfrm>
            <a:off x="457200" y="137160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here are several major groups of matter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91" name="WordArt 9"/>
          <p:cNvSpPr txBox="1"/>
          <p:nvPr/>
        </p:nvSpPr>
        <p:spPr>
          <a:xfrm>
            <a:off x="380880" y="2286000"/>
            <a:ext cx="8267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Pure substance- made of one typ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of matter on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</p:txBody>
      </p:sp>
      <p:sp>
        <p:nvSpPr>
          <p:cNvPr id="292" name="WordArt 11"/>
          <p:cNvSpPr txBox="1"/>
          <p:nvPr/>
        </p:nvSpPr>
        <p:spPr>
          <a:xfrm>
            <a:off x="380880" y="3505320"/>
            <a:ext cx="8391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ement- smallest type of pure substance with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dentifying properties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WordArt 12"/>
          <p:cNvSpPr txBox="1"/>
          <p:nvPr/>
        </p:nvSpPr>
        <p:spPr>
          <a:xfrm>
            <a:off x="2438280" y="502920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ound- two or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ore elements joined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gether to form one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ype of matter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c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4"/>
          <p:cNvSpPr txBox="1"/>
          <p:nvPr/>
        </p:nvSpPr>
        <p:spPr>
          <a:xfrm>
            <a:off x="0" y="0"/>
            <a:ext cx="9144000" cy="33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If the freezing point is ma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lower, the substance mus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et much colder before it c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reeze.  This is why PennDo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uses salt on the roads in wint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(and liquid calcium chloride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pic>
        <p:nvPicPr>
          <p:cNvPr id="434" name="Picture 5" descr="snowy road"/>
          <p:cNvPicPr/>
          <p:nvPr/>
        </p:nvPicPr>
        <p:blipFill>
          <a:blip r:embed="rId1"/>
          <a:srcRect l="0" t="24337" r="0" b="0"/>
          <a:stretch/>
        </p:blipFill>
        <p:spPr>
          <a:xfrm>
            <a:off x="2133720" y="3448080"/>
            <a:ext cx="5244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c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4"/>
          <p:cNvSpPr txBox="1"/>
          <p:nvPr/>
        </p:nvSpPr>
        <p:spPr>
          <a:xfrm>
            <a:off x="304920" y="304920"/>
            <a:ext cx="8134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ter is used to cool down your car engine.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t is contained in the radiator of your car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WordArt 5"/>
          <p:cNvSpPr txBox="1"/>
          <p:nvPr/>
        </p:nvSpPr>
        <p:spPr>
          <a:xfrm>
            <a:off x="304920" y="4114800"/>
            <a:ext cx="8439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uring winter, the water could freeze and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ack the radiator.  Adding antifreeze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ethylene glycol) lowers the freezing point and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vents the water from freezing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7" name="Picture 6" descr="radiator"/>
          <p:cNvPicPr/>
          <p:nvPr/>
        </p:nvPicPr>
        <p:blipFill>
          <a:blip r:embed="rId1"/>
          <a:stretch/>
        </p:blipFill>
        <p:spPr>
          <a:xfrm>
            <a:off x="2819520" y="19051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antifreeze"/>
          <p:cNvPicPr/>
          <p:nvPr/>
        </p:nvPicPr>
        <p:blipFill>
          <a:blip r:embed="rId2"/>
          <a:srcRect l="19200" t="0" r="19200" b="0"/>
          <a:stretch/>
        </p:blipFill>
        <p:spPr>
          <a:xfrm>
            <a:off x="457200" y="1981080"/>
            <a:ext cx="1676520" cy="203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prestone"/>
          <p:cNvPicPr/>
          <p:nvPr/>
        </p:nvPicPr>
        <p:blipFill>
          <a:blip r:embed="rId3"/>
          <a:stretch/>
        </p:blipFill>
        <p:spPr>
          <a:xfrm>
            <a:off x="7010280" y="1905120"/>
            <a:ext cx="1474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819520" y="2743200"/>
            <a:ext cx="3352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5"/>
          <p:cNvSpPr txBox="1"/>
          <p:nvPr/>
        </p:nvSpPr>
        <p:spPr>
          <a:xfrm>
            <a:off x="2514600" y="0"/>
            <a:ext cx="412128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oaps and Deterge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2" name="WordArt 6"/>
          <p:cNvSpPr txBox="1"/>
          <p:nvPr/>
        </p:nvSpPr>
        <p:spPr>
          <a:xfrm>
            <a:off x="304920" y="1676520"/>
            <a:ext cx="8534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detergent industry has spent billions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llars researching the solubility of material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t cause stain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3" name="WordArt 7"/>
          <p:cNvSpPr txBox="1"/>
          <p:nvPr/>
        </p:nvSpPr>
        <p:spPr>
          <a:xfrm>
            <a:off x="304920" y="3809880"/>
            <a:ext cx="6943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lubility of stains looks at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veral factors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4" name="WordArt 8"/>
          <p:cNvSpPr txBox="1"/>
          <p:nvPr/>
        </p:nvSpPr>
        <p:spPr>
          <a:xfrm>
            <a:off x="380880" y="5410080"/>
            <a:ext cx="331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id vs. base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WordArt 9"/>
          <p:cNvSpPr txBox="1"/>
          <p:nvPr/>
        </p:nvSpPr>
        <p:spPr>
          <a:xfrm>
            <a:off x="4343400" y="5410080"/>
            <a:ext cx="4486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lar vs. nonpolar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6" name="WordArt 10"/>
          <p:cNvSpPr txBox="1"/>
          <p:nvPr/>
        </p:nvSpPr>
        <p:spPr>
          <a:xfrm>
            <a:off x="228600" y="6210360"/>
            <a:ext cx="52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rganic vs. inorgani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WordArt 11"/>
          <p:cNvSpPr txBox="1"/>
          <p:nvPr/>
        </p:nvSpPr>
        <p:spPr>
          <a:xfrm>
            <a:off x="5943600" y="6095880"/>
            <a:ext cx="2962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t vs. cold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8" name="Picture 12" descr="MCBD05797_0000[1]"/>
          <p:cNvPicPr/>
          <p:nvPr/>
        </p:nvPicPr>
        <p:blipFill>
          <a:blip r:embed="rId1"/>
          <a:stretch/>
        </p:blipFill>
        <p:spPr>
          <a:xfrm>
            <a:off x="6819840" y="3200400"/>
            <a:ext cx="23241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343080" y="228600"/>
            <a:ext cx="857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tergents work with two processe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ind to the nonpolar, organic st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ind with polar water to be washed a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450" name="Picture 7" descr="MCHH01509_0000[1]"/>
          <p:cNvPicPr/>
          <p:nvPr/>
        </p:nvPicPr>
        <p:blipFill>
          <a:blip r:embed="rId1"/>
          <a:stretch/>
        </p:blipFill>
        <p:spPr>
          <a:xfrm>
            <a:off x="228600" y="5124600"/>
            <a:ext cx="2209680" cy="1493640"/>
          </a:xfrm>
          <a:prstGeom prst="rect">
            <a:avLst/>
          </a:prstGeom>
          <a:ln w="0">
            <a:noFill/>
          </a:ln>
        </p:spPr>
      </p:pic>
      <p:sp>
        <p:nvSpPr>
          <p:cNvPr id="451" name="WordArt 12"/>
          <p:cNvSpPr txBox="1"/>
          <p:nvPr/>
        </p:nvSpPr>
        <p:spPr>
          <a:xfrm>
            <a:off x="1352520" y="3124080"/>
            <a:ext cx="7791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Soap-making process is on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the oldest chem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reactions known to 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5"/>
          <p:cNvSpPr txBox="1"/>
          <p:nvPr/>
        </p:nvSpPr>
        <p:spPr>
          <a:xfrm>
            <a:off x="304920" y="304920"/>
            <a:ext cx="8372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rst, a fat such as lard or beef tallow is heated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3" name="Picture 6" descr="MCHH01465_0000[1]"/>
          <p:cNvPicPr/>
          <p:nvPr/>
        </p:nvPicPr>
        <p:blipFill>
          <a:blip r:embed="rId1"/>
          <a:stretch/>
        </p:blipFill>
        <p:spPr>
          <a:xfrm>
            <a:off x="6896160" y="4419720"/>
            <a:ext cx="2247840" cy="2438280"/>
          </a:xfrm>
          <a:prstGeom prst="rect">
            <a:avLst/>
          </a:prstGeom>
          <a:ln w="0">
            <a:noFill/>
          </a:ln>
        </p:spPr>
      </p:pic>
      <p:sp>
        <p:nvSpPr>
          <p:cNvPr id="454" name="WordArt 7"/>
          <p:cNvSpPr txBox="1"/>
          <p:nvPr/>
        </p:nvSpPr>
        <p:spPr>
          <a:xfrm>
            <a:off x="380880" y="1752480"/>
            <a:ext cx="8267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dium hydroxide, or lye, is added, and th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xture is heated (very dangerous, heated ly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ives off bad fumes)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8"/>
          <p:cNvSpPr txBox="1"/>
          <p:nvPr/>
        </p:nvSpPr>
        <p:spPr>
          <a:xfrm>
            <a:off x="533520" y="4267080"/>
            <a:ext cx="6705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mixture is poured into a salt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lution and separates into two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yers- soap and glycerol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8600" y="3808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Making soap is an organic reaction called saponification.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pic>
        <p:nvPicPr>
          <p:cNvPr id="457" name="Picture 5" descr="trioleinsaponification"/>
          <p:cNvPicPr/>
          <p:nvPr/>
        </p:nvPicPr>
        <p:blipFill>
          <a:blip r:embed="rId1"/>
          <a:stretch/>
        </p:blipFill>
        <p:spPr>
          <a:xfrm>
            <a:off x="3048120" y="1219320"/>
            <a:ext cx="6095880" cy="5168880"/>
          </a:xfrm>
          <a:prstGeom prst="rect">
            <a:avLst/>
          </a:prstGeom>
          <a:ln w="0">
            <a:noFill/>
          </a:ln>
        </p:spPr>
      </p:pic>
      <p:sp>
        <p:nvSpPr>
          <p:cNvPr id="458" name="WordArt 6"/>
          <p:cNvSpPr txBox="1"/>
          <p:nvPr/>
        </p:nvSpPr>
        <p:spPr>
          <a:xfrm>
            <a:off x="0" y="1523880"/>
            <a:ext cx="35053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ng carbon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ains (12-20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rbons)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9" name="WordArt 7"/>
          <p:cNvSpPr txBox="1"/>
          <p:nvPr/>
        </p:nvSpPr>
        <p:spPr>
          <a:xfrm>
            <a:off x="7086600" y="3352680"/>
            <a:ext cx="88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ye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0" name="WordArt 8"/>
          <p:cNvSpPr txBox="1"/>
          <p:nvPr/>
        </p:nvSpPr>
        <p:spPr>
          <a:xfrm>
            <a:off x="2590920" y="434340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lycerol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1" name="WordArt 9"/>
          <p:cNvSpPr txBox="1"/>
          <p:nvPr/>
        </p:nvSpPr>
        <p:spPr>
          <a:xfrm>
            <a:off x="457200" y="5562720"/>
            <a:ext cx="2381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lt of a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atty acid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304920" y="4572000"/>
            <a:ext cx="33811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npolar end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nds with dir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3" name="WordArt 11"/>
          <p:cNvSpPr txBox="1"/>
          <p:nvPr/>
        </p:nvSpPr>
        <p:spPr>
          <a:xfrm>
            <a:off x="5238720" y="3429000"/>
            <a:ext cx="3905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a end is polar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binds with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e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4" name="WordArt 12"/>
          <p:cNvSpPr txBox="1"/>
          <p:nvPr/>
        </p:nvSpPr>
        <p:spPr>
          <a:xfrm>
            <a:off x="228600" y="228600"/>
            <a:ext cx="8610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n water washes away, soap goes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o, and the dirt is pulled with it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15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5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5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"/>
          <p:cNvSpPr txBox="1"/>
          <p:nvPr/>
        </p:nvSpPr>
        <p:spPr>
          <a:xfrm>
            <a:off x="0" y="228600"/>
            <a:ext cx="31240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tergent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3276720" y="990720"/>
            <a:ext cx="541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ot the same as so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0" y="1905120"/>
            <a:ext cx="9144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ntain surfactants- interfere with hydrog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ond formation and prevent water from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eading up.  This allows water to bind 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ore grease molecules and remove them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68" name="WordArt 7"/>
          <p:cNvSpPr txBox="1"/>
          <p:nvPr/>
        </p:nvSpPr>
        <p:spPr>
          <a:xfrm>
            <a:off x="304920" y="5181480"/>
            <a:ext cx="8534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mulsifying agents- suspend the greas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the water until it is washed a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WordArt 4"/>
          <p:cNvSpPr txBox="1"/>
          <p:nvPr/>
        </p:nvSpPr>
        <p:spPr>
          <a:xfrm>
            <a:off x="457200" y="228600"/>
            <a:ext cx="813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ypes of Products on the Mar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70" name="WordArt 5"/>
          <p:cNvSpPr txBox="1"/>
          <p:nvPr/>
        </p:nvSpPr>
        <p:spPr>
          <a:xfrm>
            <a:off x="228600" y="144792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Arial Black"/>
              </a:rPr>
              <a:t>Soaps- remove dirt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Arial Black"/>
              </a:rPr>
              <a:t>used in ba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Arial Black"/>
              <a:ea typeface="Arial Black"/>
            </a:endParaRPr>
          </a:p>
        </p:txBody>
      </p:sp>
      <p:sp>
        <p:nvSpPr>
          <p:cNvPr id="471" name="WordArt 6"/>
          <p:cNvSpPr txBox="1"/>
          <p:nvPr/>
        </p:nvSpPr>
        <p:spPr>
          <a:xfrm>
            <a:off x="3809880" y="297180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Detergents- remo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grease, used in dis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and clothes was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</p:txBody>
      </p:sp>
      <p:sp>
        <p:nvSpPr>
          <p:cNvPr id="472" name="WordArt 7"/>
          <p:cNvSpPr txBox="1"/>
          <p:nvPr/>
        </p:nvSpPr>
        <p:spPr>
          <a:xfrm>
            <a:off x="0" y="5334120"/>
            <a:ext cx="64771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Boosters- boost power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detergents, used in laund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pic>
        <p:nvPicPr>
          <p:cNvPr id="473" name="Picture 8" descr="soap"/>
          <p:cNvPicPr/>
          <p:nvPr/>
        </p:nvPicPr>
        <p:blipFill>
          <a:blip r:embed="rId2"/>
          <a:stretch/>
        </p:blipFill>
        <p:spPr>
          <a:xfrm>
            <a:off x="6172200" y="1101600"/>
            <a:ext cx="2057400" cy="174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tide"/>
          <p:cNvPicPr/>
          <p:nvPr/>
        </p:nvPicPr>
        <p:blipFill>
          <a:blip r:embed="rId3"/>
          <a:stretch/>
        </p:blipFill>
        <p:spPr>
          <a:xfrm>
            <a:off x="6094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oxyclean"/>
          <p:cNvPicPr/>
          <p:nvPr/>
        </p:nvPicPr>
        <p:blipFill>
          <a:blip r:embed="rId4"/>
          <a:stretch/>
        </p:blipFill>
        <p:spPr>
          <a:xfrm>
            <a:off x="6781680" y="4800600"/>
            <a:ext cx="1905120" cy="1836720"/>
          </a:xfrm>
          <a:prstGeom prst="rect">
            <a:avLst/>
          </a:prstGeom>
          <a:ln w="0">
            <a:noFill/>
          </a:ln>
        </p:spPr>
      </p:pic>
      <p:sp>
        <p:nvSpPr>
          <p:cNvPr id="476" name="WordArt 11"/>
          <p:cNvSpPr txBox="1"/>
          <p:nvPr/>
        </p:nvSpPr>
        <p:spPr>
          <a:xfrm>
            <a:off x="0" y="1447920"/>
            <a:ext cx="8810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Stain removers- increase solubilit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of stain in water, used in laund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</p:txBody>
      </p:sp>
      <p:pic>
        <p:nvPicPr>
          <p:cNvPr id="477" name="Picture 12" descr="stain remover"/>
          <p:cNvPicPr/>
          <p:nvPr/>
        </p:nvPicPr>
        <p:blipFill>
          <a:blip r:embed="rId5"/>
          <a:srcRect l="39724" t="56355" r="33103" b="0"/>
          <a:stretch/>
        </p:blipFill>
        <p:spPr>
          <a:xfrm>
            <a:off x="4572000" y="2743200"/>
            <a:ext cx="1332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4"/>
          <p:cNvSpPr txBox="1"/>
          <p:nvPr/>
        </p:nvSpPr>
        <p:spPr>
          <a:xfrm>
            <a:off x="1447920" y="228600"/>
            <a:ext cx="5648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How to Remove Sta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79" name="WordArt 6"/>
          <p:cNvSpPr txBox="1"/>
          <p:nvPr/>
        </p:nvSpPr>
        <p:spPr>
          <a:xfrm>
            <a:off x="304920" y="1371600"/>
            <a:ext cx="834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lood- soak in cold water, wash OR soak in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roxide solution and a few drops of ammoni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WordArt 7"/>
          <p:cNvSpPr txBox="1"/>
          <p:nvPr/>
        </p:nvSpPr>
        <p:spPr>
          <a:xfrm>
            <a:off x="457200" y="2743200"/>
            <a:ext cx="8201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ocolate- scrape off excess, dab with liquid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tergent, wash with powder detergent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WordArt 8"/>
          <p:cNvSpPr txBox="1"/>
          <p:nvPr/>
        </p:nvSpPr>
        <p:spPr>
          <a:xfrm>
            <a:off x="304920" y="396252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ffee- soak in 50% glycerine solution for 1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r, wash OR soak in 17% peroxide solution, was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2" name="WordArt 10"/>
          <p:cNvSpPr txBox="1"/>
          <p:nvPr/>
        </p:nvSpPr>
        <p:spPr>
          <a:xfrm>
            <a:off x="304920" y="5334120"/>
            <a:ext cx="849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smetics- soak 5 minutes in 1% ammonia, rinse, 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h in strong detergent and hottest water possible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3" name="WordArt 11"/>
          <p:cNvSpPr txBox="1"/>
          <p:nvPr/>
        </p:nvSpPr>
        <p:spPr>
          <a:xfrm>
            <a:off x="609480" y="129528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ayon- dab with seltzer, soak 1 hr OR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ak in 50% glycerine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WordArt 12"/>
          <p:cNvSpPr txBox="1"/>
          <p:nvPr/>
        </p:nvSpPr>
        <p:spPr>
          <a:xfrm>
            <a:off x="304920" y="2590920"/>
            <a:ext cx="8505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ruit- soak in 50% glycerine OR 17% peroxide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WordArt 13"/>
          <p:cNvSpPr txBox="1"/>
          <p:nvPr/>
        </p:nvSpPr>
        <p:spPr>
          <a:xfrm>
            <a:off x="304920" y="3429000"/>
            <a:ext cx="8534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ass- dab with seltzer, wash in warm, soapy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ter OR soak in 50% glycerine, let soften,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h in strong detergen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WordArt 14"/>
          <p:cNvSpPr txBox="1"/>
          <p:nvPr/>
        </p:nvSpPr>
        <p:spPr>
          <a:xfrm>
            <a:off x="380880" y="1295280"/>
            <a:ext cx="78771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ease- scrape off excess, dampen, dab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th liquid detergent, wash in hottest water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ssible OR press between absorbent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per, press with warm iron, was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7" name="WordArt 15"/>
          <p:cNvSpPr txBox="1"/>
          <p:nvPr/>
        </p:nvSpPr>
        <p:spPr>
          <a:xfrm>
            <a:off x="1219320" y="55627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n- spray with hair spray, wash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8" name="WordArt 16"/>
          <p:cNvSpPr txBox="1"/>
          <p:nvPr/>
        </p:nvSpPr>
        <p:spPr>
          <a:xfrm>
            <a:off x="380880" y="4038480"/>
            <a:ext cx="8525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weat- soak in 33% ammonia solution, 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h OR dab with 6% vinegar solution, wait 5 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nutes, soak in detergent, wash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brass"/>
          <p:cNvPicPr/>
          <p:nvPr/>
        </p:nvPicPr>
        <p:blipFill>
          <a:blip r:embed="rId1"/>
          <a:srcRect l="16694" t="25041" r="16694" b="25041"/>
          <a:stretch/>
        </p:blipFill>
        <p:spPr>
          <a:xfrm>
            <a:off x="6934320" y="4572000"/>
            <a:ext cx="2209680" cy="1654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kneehi"/>
          <p:cNvPicPr/>
          <p:nvPr/>
        </p:nvPicPr>
        <p:blipFill>
          <a:blip r:embed="rId2"/>
          <a:stretch/>
        </p:blipFill>
        <p:spPr>
          <a:xfrm>
            <a:off x="4724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pizza"/>
          <p:cNvPicPr/>
          <p:nvPr/>
        </p:nvPicPr>
        <p:blipFill>
          <a:blip r:embed="rId3"/>
          <a:srcRect l="0" t="16694" r="0" b="12521"/>
          <a:stretch/>
        </p:blipFill>
        <p:spPr>
          <a:xfrm>
            <a:off x="6858000" y="1828800"/>
            <a:ext cx="2286000" cy="1938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milk_reflection_big"/>
          <p:cNvPicPr/>
          <p:nvPr/>
        </p:nvPicPr>
        <p:blipFill>
          <a:blip r:embed="rId4"/>
          <a:stretch/>
        </p:blipFill>
        <p:spPr>
          <a:xfrm>
            <a:off x="4495680" y="44956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9"/>
          <p:cNvSpPr txBox="1"/>
          <p:nvPr/>
        </p:nvSpPr>
        <p:spPr>
          <a:xfrm>
            <a:off x="304920" y="304920"/>
            <a:ext cx="8267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Mixtures- made of two or mor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types of ma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</p:txBody>
      </p:sp>
      <p:sp>
        <p:nvSpPr>
          <p:cNvPr id="299" name="WordArt 10"/>
          <p:cNvSpPr txBox="1"/>
          <p:nvPr/>
        </p:nvSpPr>
        <p:spPr>
          <a:xfrm>
            <a:off x="380880" y="1752480"/>
            <a:ext cx="3886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terogeneous-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 spots with a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fferent composition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mixture)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11"/>
          <p:cNvSpPr txBox="1"/>
          <p:nvPr/>
        </p:nvSpPr>
        <p:spPr>
          <a:xfrm>
            <a:off x="762120" y="4343400"/>
            <a:ext cx="3352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mogeneous-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s the same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osition all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way through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solution)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4"/>
          <p:cNvSpPr txBox="1"/>
          <p:nvPr/>
        </p:nvSpPr>
        <p:spPr>
          <a:xfrm>
            <a:off x="533520" y="380880"/>
            <a:ext cx="752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ids are present in the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mosphere in small amounts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WordArt 5"/>
          <p:cNvSpPr txBox="1"/>
          <p:nvPr/>
        </p:nvSpPr>
        <p:spPr>
          <a:xfrm>
            <a:off x="0" y="2057400"/>
            <a:ext cx="552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x gases- nitric acid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1" name="WordArt 6"/>
          <p:cNvSpPr txBox="1"/>
          <p:nvPr/>
        </p:nvSpPr>
        <p:spPr>
          <a:xfrm>
            <a:off x="752400" y="2895480"/>
            <a:ext cx="839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r exhaust, industry- west coas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WordArt 7"/>
          <p:cNvSpPr txBox="1"/>
          <p:nvPr/>
        </p:nvSpPr>
        <p:spPr>
          <a:xfrm>
            <a:off x="0" y="4038480"/>
            <a:ext cx="6039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x gases- sulfuric acid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3" name="WordArt 8"/>
          <p:cNvSpPr txBox="1"/>
          <p:nvPr/>
        </p:nvSpPr>
        <p:spPr>
          <a:xfrm>
            <a:off x="1419120" y="4876920"/>
            <a:ext cx="7724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rning fossil fuels- east coas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4" name="Picture 9" descr="MCj02345550000[1]"/>
          <p:cNvPicPr/>
          <p:nvPr/>
        </p:nvPicPr>
        <p:blipFill>
          <a:blip r:embed="rId1"/>
          <a:stretch/>
        </p:blipFill>
        <p:spPr>
          <a:xfrm>
            <a:off x="7238880" y="3505320"/>
            <a:ext cx="1398600" cy="13986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MCNA00614_0000[1]"/>
          <p:cNvPicPr/>
          <p:nvPr/>
        </p:nvPicPr>
        <p:blipFill>
          <a:blip r:embed="rId2"/>
          <a:stretch/>
        </p:blipFill>
        <p:spPr>
          <a:xfrm>
            <a:off x="6324480" y="1752480"/>
            <a:ext cx="2175120" cy="11415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1"/>
          <p:cNvSpPr txBox="1"/>
          <p:nvPr/>
        </p:nvSpPr>
        <p:spPr>
          <a:xfrm>
            <a:off x="380880" y="5562720"/>
            <a:ext cx="802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Arial Black"/>
              </a:rPr>
              <a:t>Mix with water and fall to Earth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Arial Black"/>
              </a:rPr>
              <a:t>as acid rain, fog, or snow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4"/>
          <p:cNvSpPr txBox="1"/>
          <p:nvPr/>
        </p:nvSpPr>
        <p:spPr>
          <a:xfrm>
            <a:off x="304920" y="30492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cid rain affects the environm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gativel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8" name="WordArt 5"/>
          <p:cNvSpPr txBox="1"/>
          <p:nvPr/>
        </p:nvSpPr>
        <p:spPr>
          <a:xfrm>
            <a:off x="6172200" y="2362320"/>
            <a:ext cx="2657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rganism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9" name="WordArt 6"/>
          <p:cNvSpPr txBox="1"/>
          <p:nvPr/>
        </p:nvSpPr>
        <p:spPr>
          <a:xfrm>
            <a:off x="380880" y="1905120"/>
            <a:ext cx="487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ggs are deformed or die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0" name="WordArt 7"/>
          <p:cNvSpPr txBox="1"/>
          <p:nvPr/>
        </p:nvSpPr>
        <p:spPr>
          <a:xfrm>
            <a:off x="304920" y="2743200"/>
            <a:ext cx="51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sh gills become clogged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1" name="WordArt 8"/>
          <p:cNvSpPr txBox="1"/>
          <p:nvPr/>
        </p:nvSpPr>
        <p:spPr>
          <a:xfrm>
            <a:off x="304920" y="3581280"/>
            <a:ext cx="7010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tchlings have small fins or no scales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2" name="WordArt 9"/>
          <p:cNvSpPr txBox="1"/>
          <p:nvPr/>
        </p:nvSpPr>
        <p:spPr>
          <a:xfrm>
            <a:off x="228600" y="5181480"/>
            <a:ext cx="157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3" name="WordArt 10"/>
          <p:cNvSpPr txBox="1"/>
          <p:nvPr/>
        </p:nvSpPr>
        <p:spPr>
          <a:xfrm>
            <a:off x="4495680" y="441972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aves develop holes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WordArt 11"/>
          <p:cNvSpPr txBox="1"/>
          <p:nvPr/>
        </p:nvSpPr>
        <p:spPr>
          <a:xfrm>
            <a:off x="2133720" y="5181480"/>
            <a:ext cx="7010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aves and stems may be discolored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5" name="WordArt 12"/>
          <p:cNvSpPr txBox="1"/>
          <p:nvPr/>
        </p:nvSpPr>
        <p:spPr>
          <a:xfrm>
            <a:off x="4800600" y="5867280"/>
            <a:ext cx="385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ms become wilted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4"/>
          <p:cNvSpPr txBox="1"/>
          <p:nvPr/>
        </p:nvSpPr>
        <p:spPr>
          <a:xfrm>
            <a:off x="304920" y="304920"/>
            <a:ext cx="80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Index species- cannot survive 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acidic condition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sp>
        <p:nvSpPr>
          <p:cNvPr id="507" name="WordArt 5"/>
          <p:cNvSpPr txBox="1"/>
          <p:nvPr/>
        </p:nvSpPr>
        <p:spPr>
          <a:xfrm>
            <a:off x="1143000" y="1905120"/>
            <a:ext cx="729612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ood stream health indicator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8" name="WordArt 6"/>
          <p:cNvSpPr txBox="1"/>
          <p:nvPr/>
        </p:nvSpPr>
        <p:spPr>
          <a:xfrm>
            <a:off x="304920" y="274320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Brook trout- no acid, clean water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  <p:pic>
        <p:nvPicPr>
          <p:cNvPr id="509" name="Picture 7" descr="brook trout"/>
          <p:cNvPicPr/>
          <p:nvPr/>
        </p:nvPicPr>
        <p:blipFill>
          <a:blip r:embed="rId1"/>
          <a:stretch/>
        </p:blipFill>
        <p:spPr>
          <a:xfrm>
            <a:off x="4267080" y="3505320"/>
            <a:ext cx="4496040" cy="1558800"/>
          </a:xfrm>
          <a:prstGeom prst="rect">
            <a:avLst/>
          </a:prstGeom>
          <a:ln w="0">
            <a:noFill/>
          </a:ln>
        </p:spPr>
      </p:pic>
      <p:sp>
        <p:nvSpPr>
          <p:cNvPr id="510" name="WordArt 8"/>
          <p:cNvSpPr txBox="1"/>
          <p:nvPr/>
        </p:nvSpPr>
        <p:spPr>
          <a:xfrm>
            <a:off x="1143000" y="3962520"/>
            <a:ext cx="29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high DO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  <p:sp>
        <p:nvSpPr>
          <p:cNvPr id="511" name="WordArt 9"/>
          <p:cNvSpPr txBox="1"/>
          <p:nvPr/>
        </p:nvSpPr>
        <p:spPr>
          <a:xfrm>
            <a:off x="609480" y="4800600"/>
            <a:ext cx="476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shaded, cool w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28600" y="228600"/>
            <a:ext cx="839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id rain is NOT the main sourc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cid pollution in PA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3" name="WordArt 5"/>
          <p:cNvSpPr txBox="1"/>
          <p:nvPr/>
        </p:nvSpPr>
        <p:spPr>
          <a:xfrm>
            <a:off x="228600" y="1981080"/>
            <a:ext cx="861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 Black"/>
              </a:rPr>
              <a:t>Acid mine drainage- water pass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 Black"/>
              </a:rPr>
              <a:t>through abandoned coal m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 Black"/>
              <a:ea typeface="Arial Black"/>
            </a:endParaRPr>
          </a:p>
        </p:txBody>
      </p:sp>
      <p:sp>
        <p:nvSpPr>
          <p:cNvPr id="514" name="WordArt 6"/>
          <p:cNvSpPr txBox="1"/>
          <p:nvPr/>
        </p:nvSpPr>
        <p:spPr>
          <a:xfrm>
            <a:off x="304920" y="3733920"/>
            <a:ext cx="8458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ulfur deposits called slush ar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by-products of mining, mak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ater acidic.  Acid wat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dissolves iron pyrite, mak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ater orang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380880" y="30492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Dead streams- streams s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acidic organisms cannot surv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516" name="WordArt 5"/>
          <p:cNvSpPr txBox="1"/>
          <p:nvPr/>
        </p:nvSpPr>
        <p:spPr>
          <a:xfrm>
            <a:off x="380880" y="2133720"/>
            <a:ext cx="82677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 streams in PA ha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mestone river beds- act a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ffer to the acid to neutralize i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7" name="WordArt 6"/>
          <p:cNvSpPr txBox="1"/>
          <p:nvPr/>
        </p:nvSpPr>
        <p:spPr>
          <a:xfrm>
            <a:off x="762120" y="4572000"/>
            <a:ext cx="7372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aves the stream, bu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kes it deeper as acid ea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way at the stream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Organization Chart 3"/>
          <p:cNvGrpSpPr/>
          <p:nvPr/>
        </p:nvGrpSpPr>
        <p:grpSpPr>
          <a:xfrm>
            <a:off x="228600" y="1002600"/>
            <a:ext cx="8915040" cy="3674520"/>
            <a:chOff x="228600" y="1002600"/>
            <a:chExt cx="8915040" cy="3674520"/>
          </a:xfrm>
        </p:grpSpPr>
        <p:cxnSp>
          <p:nvCxnSpPr>
            <p:cNvPr id="302" name="_s1028"/>
            <p:cNvCxnSpPr>
              <a:stCxn id="303" idx="0"/>
              <a:endCxn id="304" idx="3"/>
            </p:cNvCxnSpPr>
            <p:nvPr/>
          </p:nvCxnSpPr>
          <p:spPr>
            <a:xfrm flipV="1" rot="16200000">
              <a:off x="7413480" y="3260160"/>
              <a:ext cx="322200" cy="122904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05" name="_s1029"/>
            <p:cNvCxnSpPr>
              <a:stCxn id="306" idx="0"/>
              <a:endCxn id="304" idx="3"/>
            </p:cNvCxnSpPr>
            <p:nvPr/>
          </p:nvCxnSpPr>
          <p:spPr>
            <a:xfrm flipH="1" flipV="1" rot="5400000">
              <a:off x="6257880" y="3333240"/>
              <a:ext cx="322200" cy="108324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07" name="_s1030"/>
            <p:cNvCxnSpPr>
              <a:stCxn id="308" idx="0"/>
              <a:endCxn id="309" idx="3"/>
            </p:cNvCxnSpPr>
            <p:nvPr/>
          </p:nvCxnSpPr>
          <p:spPr>
            <a:xfrm flipV="1" rot="16200000">
              <a:off x="2790000" y="3260520"/>
              <a:ext cx="322200" cy="122832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0" name="_s1031"/>
            <p:cNvCxnSpPr>
              <a:stCxn id="311" idx="0"/>
              <a:endCxn id="309" idx="3"/>
            </p:cNvCxnSpPr>
            <p:nvPr/>
          </p:nvCxnSpPr>
          <p:spPr>
            <a:xfrm flipH="1" flipV="1" rot="5400000">
              <a:off x="1634760" y="3333240"/>
              <a:ext cx="322200" cy="108324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2" name="_s1032"/>
            <p:cNvCxnSpPr>
              <a:stCxn id="304" idx="0"/>
              <a:endCxn id="313" idx="3"/>
            </p:cNvCxnSpPr>
            <p:nvPr/>
          </p:nvCxnSpPr>
          <p:spPr>
            <a:xfrm flipV="1" rot="16200000">
              <a:off x="6836040" y="2819160"/>
              <a:ext cx="322200" cy="78480"/>
            </a:xfrm>
            <a:prstGeom prst="bentConnector3">
              <a:avLst>
                <a:gd name="adj1" fmla="val 3557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4" name="_s1033"/>
            <p:cNvCxnSpPr>
              <a:stCxn id="309" idx="0"/>
              <a:endCxn id="315" idx="3"/>
            </p:cNvCxnSpPr>
            <p:nvPr/>
          </p:nvCxnSpPr>
          <p:spPr>
            <a:xfrm flipV="1" rot="16200000">
              <a:off x="2213280" y="2819160"/>
              <a:ext cx="322200" cy="78480"/>
            </a:xfrm>
            <a:prstGeom prst="bentConnector3">
              <a:avLst>
                <a:gd name="adj1" fmla="val 3557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6" name="_s1034"/>
            <p:cNvCxnSpPr>
              <a:stCxn id="313" idx="0"/>
              <a:endCxn id="317" idx="3"/>
            </p:cNvCxnSpPr>
            <p:nvPr/>
          </p:nvCxnSpPr>
          <p:spPr>
            <a:xfrm flipV="1" rot="16200000">
              <a:off x="5682600" y="613440"/>
              <a:ext cx="322200" cy="238536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8" name="_s1035"/>
            <p:cNvCxnSpPr>
              <a:stCxn id="315" idx="0"/>
              <a:endCxn id="317" idx="3"/>
            </p:cNvCxnSpPr>
            <p:nvPr/>
          </p:nvCxnSpPr>
          <p:spPr>
            <a:xfrm flipH="1" flipV="1" rot="5400000">
              <a:off x="3371760" y="687240"/>
              <a:ext cx="322200" cy="223848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317" name="_s1036"/>
            <p:cNvSpPr/>
            <p:nvPr/>
          </p:nvSpPr>
          <p:spPr>
            <a:xfrm>
              <a:off x="2452680" y="1002600"/>
              <a:ext cx="446652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ow many types of matter is it made of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37"/>
            <p:cNvSpPr/>
            <p:nvPr/>
          </p:nvSpPr>
          <p:spPr>
            <a:xfrm>
              <a:off x="1383120" y="1967760"/>
              <a:ext cx="1983240" cy="730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ure Substanc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1038"/>
            <p:cNvSpPr/>
            <p:nvPr/>
          </p:nvSpPr>
          <p:spPr>
            <a:xfrm>
              <a:off x="6005880" y="1967760"/>
              <a:ext cx="1983240" cy="730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9"/>
            <p:cNvSpPr/>
            <p:nvPr/>
          </p:nvSpPr>
          <p:spPr>
            <a:xfrm>
              <a:off x="738000" y="3019680"/>
              <a:ext cx="3274920" cy="694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s it on the periodic tabl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1040"/>
            <p:cNvSpPr/>
            <p:nvPr/>
          </p:nvSpPr>
          <p:spPr>
            <a:xfrm>
              <a:off x="5360760" y="3019680"/>
              <a:ext cx="3274920" cy="694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es it have spots that loo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ifferent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41"/>
            <p:cNvSpPr/>
            <p:nvPr/>
          </p:nvSpPr>
          <p:spPr>
            <a:xfrm>
              <a:off x="228600" y="4035960"/>
              <a:ext cx="198036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880" rIns="3888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1042"/>
            <p:cNvSpPr/>
            <p:nvPr/>
          </p:nvSpPr>
          <p:spPr>
            <a:xfrm>
              <a:off x="2539440" y="4035960"/>
              <a:ext cx="198108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880" rIns="3888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43"/>
            <p:cNvSpPr/>
            <p:nvPr/>
          </p:nvSpPr>
          <p:spPr>
            <a:xfrm>
              <a:off x="4851360" y="4035960"/>
              <a:ext cx="198036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x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1044"/>
            <p:cNvSpPr/>
            <p:nvPr/>
          </p:nvSpPr>
          <p:spPr>
            <a:xfrm>
              <a:off x="7162560" y="4035960"/>
              <a:ext cx="198108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22"/>
          <p:cNvSpPr/>
          <p:nvPr/>
        </p:nvSpPr>
        <p:spPr>
          <a:xfrm>
            <a:off x="7924680" y="5029200"/>
            <a:ext cx="609840" cy="1066680"/>
          </a:xfrm>
          <a:prstGeom prst="up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28600" y="304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Arial Black"/>
              </a:rPr>
              <a:t>Solutions are made of two main par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Arial Black"/>
              <a:ea typeface="Arial Black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533520" y="1676520"/>
            <a:ext cx="739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olute- thing that gets dissolv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609480" y="2590920"/>
            <a:ext cx="7696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olvent- thing that does the dissolving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present in larger amou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e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4"/>
          <p:cNvSpPr txBox="1"/>
          <p:nvPr/>
        </p:nvSpPr>
        <p:spPr>
          <a:xfrm>
            <a:off x="2590920" y="5715000"/>
            <a:ext cx="44910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YPES OF SOLUTION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304920" y="30492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Gaseou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sp>
        <p:nvSpPr>
          <p:cNvPr id="325" name="WordArt 6"/>
          <p:cNvSpPr txBox="1"/>
          <p:nvPr/>
        </p:nvSpPr>
        <p:spPr>
          <a:xfrm>
            <a:off x="2819520" y="304920"/>
            <a:ext cx="493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de of two or more gase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7"/>
          <p:cNvSpPr txBox="1"/>
          <p:nvPr/>
        </p:nvSpPr>
        <p:spPr>
          <a:xfrm>
            <a:off x="8229600" y="304920"/>
            <a:ext cx="59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ir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8"/>
          <p:cNvSpPr txBox="1"/>
          <p:nvPr/>
        </p:nvSpPr>
        <p:spPr>
          <a:xfrm>
            <a:off x="533520" y="2438280"/>
            <a:ext cx="152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Liqu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2438280" y="1523880"/>
            <a:ext cx="350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quid dissolves ga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10"/>
          <p:cNvSpPr txBox="1"/>
          <p:nvPr/>
        </p:nvSpPr>
        <p:spPr>
          <a:xfrm>
            <a:off x="2362320" y="2209680"/>
            <a:ext cx="392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quid dissolves liqu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1"/>
          <p:cNvSpPr txBox="1"/>
          <p:nvPr/>
        </p:nvSpPr>
        <p:spPr>
          <a:xfrm>
            <a:off x="2362320" y="3276720"/>
            <a:ext cx="3752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quid dissolves sol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12"/>
          <p:cNvSpPr txBox="1"/>
          <p:nvPr/>
        </p:nvSpPr>
        <p:spPr>
          <a:xfrm>
            <a:off x="7162920" y="1371600"/>
            <a:ext cx="8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d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WordArt 13"/>
          <p:cNvSpPr txBox="1"/>
          <p:nvPr/>
        </p:nvSpPr>
        <p:spPr>
          <a:xfrm>
            <a:off x="6553080" y="228600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tifreeze,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negar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WordArt 14"/>
          <p:cNvSpPr txBox="1"/>
          <p:nvPr/>
        </p:nvSpPr>
        <p:spPr>
          <a:xfrm>
            <a:off x="6705720" y="3276720"/>
            <a:ext cx="1857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alt water,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oola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15"/>
          <p:cNvSpPr txBox="1"/>
          <p:nvPr/>
        </p:nvSpPr>
        <p:spPr>
          <a:xfrm>
            <a:off x="457200" y="41911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Sol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sp>
        <p:nvSpPr>
          <p:cNvPr id="335" name="WordArt 16"/>
          <p:cNvSpPr txBox="1"/>
          <p:nvPr/>
        </p:nvSpPr>
        <p:spPr>
          <a:xfrm>
            <a:off x="2286000" y="43434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lled alloy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17"/>
          <p:cNvSpPr txBox="1"/>
          <p:nvPr/>
        </p:nvSpPr>
        <p:spPr>
          <a:xfrm>
            <a:off x="2095560" y="5029200"/>
            <a:ext cx="7048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rling silver, gold alloy, brass, bronze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54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22860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Solutions can be separated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by particle size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981080"/>
            <a:ext cx="49784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lution- smallest particle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33720" y="2590920"/>
            <a:ext cx="38098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annot be seen, clea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3429000"/>
            <a:ext cx="52322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uspension- largest particles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666880" y="3962520"/>
            <a:ext cx="53341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an be seen, settle into layers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4648320"/>
            <a:ext cx="73152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lloid- small particles that are suspended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828800" y="52578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an be seen with the aid of a light 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(Tyndall effect)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bfe"/>
            </a:gs>
            <a:gs pos="100000">
              <a:srgbClr val="008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68680" y="0"/>
            <a:ext cx="200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lloi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280" y="990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Gel- colloid that solidifi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03040" y="2847960"/>
            <a:ext cx="87379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6ff3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Emulsion- liquid suspended in a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6ff3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6ff3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liqu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6ff3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280" y="5029200"/>
            <a:ext cx="80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1be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Foam- gas suspended in a liqu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1be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553080" y="1828800"/>
            <a:ext cx="1165320" cy="7794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666880" y="56386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572000" y="5715000"/>
            <a:ext cx="1281240" cy="851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819520" y="411480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6934320" y="5715000"/>
            <a:ext cx="103968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457200" y="1752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7543800" y="3886200"/>
            <a:ext cx="1066680" cy="9493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685800" y="373392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5562720" y="3809880"/>
            <a:ext cx="1074600" cy="1074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4952880" y="1981080"/>
            <a:ext cx="1219320" cy="644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1"/>
          <a:stretch/>
        </p:blipFill>
        <p:spPr>
          <a:xfrm>
            <a:off x="1981080" y="175248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2"/>
          <a:stretch/>
        </p:blipFill>
        <p:spPr>
          <a:xfrm>
            <a:off x="7924680" y="1371600"/>
            <a:ext cx="895320" cy="13446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3532320" y="175248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4"/>
          <p:cNvSpPr txBox="1"/>
          <p:nvPr/>
        </p:nvSpPr>
        <p:spPr>
          <a:xfrm>
            <a:off x="1371600" y="533520"/>
            <a:ext cx="5791320" cy="11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king Solu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2" name="WordArt 5"/>
          <p:cNvSpPr txBox="1"/>
          <p:nvPr/>
        </p:nvSpPr>
        <p:spPr>
          <a:xfrm>
            <a:off x="685800" y="1981080"/>
            <a:ext cx="760104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solid and liquid are in the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ntainer, but how do you get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m to mix?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3" name="WordArt 6"/>
          <p:cNvSpPr txBox="1"/>
          <p:nvPr/>
        </p:nvSpPr>
        <p:spPr>
          <a:xfrm>
            <a:off x="1676520" y="3733920"/>
            <a:ext cx="547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ncrease surface 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7238880" y="594360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ti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5" name="WordArt 8"/>
          <p:cNvSpPr txBox="1"/>
          <p:nvPr/>
        </p:nvSpPr>
        <p:spPr>
          <a:xfrm>
            <a:off x="304920" y="5867280"/>
            <a:ext cx="1695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at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6" name="WordArt 9"/>
          <p:cNvSpPr txBox="1"/>
          <p:nvPr/>
        </p:nvSpPr>
        <p:spPr>
          <a:xfrm>
            <a:off x="1066680" y="4800600"/>
            <a:ext cx="6801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oves solvent and solute around and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reases contact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5:21:41Z</dcterms:created>
  <dc:creator>End User</dc:creator>
  <dc:description/>
  <dc:language>en-US</dc:language>
  <cp:lastModifiedBy>PA Department of Education</cp:lastModifiedBy>
  <dcterms:modified xsi:type="dcterms:W3CDTF">2009-04-23T19:24:29Z</dcterms:modified>
  <cp:revision>57</cp:revision>
  <dc:subject/>
  <dc:title>Slide 1</dc:title>
</cp:coreProperties>
</file>